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dt" idx="40"/>
          </p:nvPr>
        </p:nvSpPr>
        <p:spPr>
          <a:xfrm>
            <a:off x="384768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 type="sldNum" idx="42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F81E9E-1441-453A-8A8E-23DFC19FA6A0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投影片編號版面配置區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D6DB7E-DE87-4034-BEB5-8AF148BA845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C081-AB3A-4AE6-B886-09551B4C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F59-05AF-4F1F-872A-E0505B2E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DD5866-570C-40E3-AD6B-99B49EEE25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F9CC2-D234-434A-9ED3-AD1D8142CF8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44536-FCC5-46D4-964D-8564E2F08AB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EDF20-339D-4553-A0B9-7EAE653F7D9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08363-2F5E-4AC4-A46D-E13CF96C2AE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63E3B-0525-4D6D-8A62-14399820B04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DCFA12-41DD-4463-8D68-BB46477EB51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B36FD-7EB1-4BAC-B3CA-9E8705D468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3A147-64CF-4D94-886C-027C1E8B1C5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F2376-1A20-475F-B203-876AA54A1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0EA-4DB6-4471-8BCD-835E2C2D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82E5-C54F-48AA-89BC-0EA5F337E8B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5CCFA-7EE1-4A1F-B90C-BB1BA01E0D8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9DF93-01B6-4FA6-819B-F20A4228570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846A3-7F72-4169-95BF-2FD2DEBB235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BE98-591C-43FC-BB59-9E1DF2B28D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4710-63B8-4200-9222-B63D929C231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85B7D-185C-4CA7-BC4E-CA6EF3FC137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BDC0A-8334-4105-A102-6D9B668A814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848E9-578B-4091-9BE1-2725BB7F533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32C17-0DF6-4857-A086-F67065787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E2E-FDAF-45B2-AE65-5D063B5E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3555C-6CAD-4207-962A-EF47A3A736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02B0BF-A184-4C59-BB26-B8952292479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12AA87-0796-443C-92A7-DEB96CF3C1B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261A37-32C5-4D56-9F1D-32E5594A6F4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DB17CC-A8EA-4D59-8D48-EC2F6E42D30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AC986B-16D2-4C1E-85E6-EB365B91365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585FD3-6479-43EE-8EFC-B69AC6E621A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C3E0FC-6433-4A22-BDB9-ED1ECA7D7F1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3C7D8D-373E-4606-BE13-29724FFE8D4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D35F79-7F7C-4A48-BDEC-1274BCB83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8181D-B898-4676-9843-40673C95C48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7CB5B2-249A-424B-BA7D-490171EEEB7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0F1C0D-EECB-4AA0-8F8D-9238342107E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D4C663-619F-4886-B75E-72E1AB58C55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1BCC5-EDF4-4AF8-BEAE-4830851C7B7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39558-A21F-45AF-9F14-74F9C7B8C51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3E959-ACBF-4FE8-85D3-D442FE4B09E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C19B2-1F48-4912-8F7E-FB069B89826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4E5B8-926F-4EF0-9A91-655E2685200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0BB41-B48A-41A2-AB02-B34998A7C8B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610D5-9C90-47A5-9396-3E79907434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A6F20-44C6-4E4D-A180-D0A80E023F8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D33B6-5922-40B6-A28D-3064DE38A7A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BC540-0DDA-443D-B7FB-2B26ABEB664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75D07-ADB4-4069-8EC5-1D722F8055F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CA14B-A188-4DAE-86A9-BD8CE46D2CF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381A6-7A60-47F9-92E5-6B2AA17D60D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3FE11-5917-481A-8411-C360B6D7494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3B00-5E47-45FB-BEC3-9BEAB9257FA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64C3A-C346-4B8A-A07A-59B6B76810E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A78C-5AB2-4CEC-8AE9-872A3D02A70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431E7-A840-4D77-9AE3-7587041A2A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0DAD3-3A25-48BF-8C5B-8C6E354E6D3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60417-698F-4430-9123-2569B5BD804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2148-780B-435D-A895-B5329B5447D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958D2-B175-4D13-9818-3F75311CE73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41C84-1D96-41C6-8DD6-E29B1BC5026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24F27-63C6-4D58-9DF5-6CB70AC78CE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6105F-225F-408E-AAEF-75398400F83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DA583-2AA1-44FA-B65F-F360C41490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AD3F80-9AB1-48FE-AC33-4E04B648376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8D716-4791-4B32-8CFF-CF87B97DEEB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AD60A9-8DA6-47D2-99DA-01B445D66C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2C907-04A5-4474-AF1C-8DF78C01FEC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1934BE-264B-4ACF-B4D2-502DF053FA9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DB9F1C-80F1-440B-BA3B-0325E021362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3D9C63-8DCB-4AD7-B84B-7BA927C031F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BF2CBD-F231-49C2-9F95-6B89F16D1A7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F64B0E-BCD8-463D-9B39-72389906F10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90D5BC-6E05-43FC-957D-AC40D42E4CA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C8E6EA-9698-46C9-9E0F-085E93A1012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5119E8-0BBD-49A1-8B13-14FB010774E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94C314-4AF2-48C1-9D48-79DB9872B6C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18BE2-9D29-47DE-BC1F-2200CB8BC6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9BD89-6D88-4F4F-9CC7-639CDEAD25B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18E0F-7064-4026-9E7B-FF8F5686213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10433-99B7-461B-B519-B5F20914BC5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47677-B98B-455E-9344-15BAB369E70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061F6-46DC-40EC-BA3B-1B4AC82D7B9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186A6-E63C-4E43-A8CA-2901931954E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17642-77D4-4BF2-9478-97D7770303D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F7D394-F490-4BAE-A86B-3F17C1A1E07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270C4-73EE-4220-A887-1643966BBAC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3CABF-DD4F-4AB5-B615-0EC591AAE87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058D6-C803-462F-B340-6D0530FAA2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CB845-191E-408C-B771-88446647891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4FCE5-DBBC-430A-B065-3C33E9F2973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D0EAF-1B9E-41A1-ACE6-A477734C33B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14DA5-D72A-4C90-9A78-9BACC8BD73D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32A1B-98C7-4CC4-9D3C-072F597FDA7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D36FB-2E67-4BEB-BEE2-4F435F32359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B484F-E367-4562-98CC-5286FB71803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128F6-8D2A-4C9E-81A0-57EE400B4D3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B1D43-F83F-40D0-B98B-F9054BDDF25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EA423-DCFD-4B4F-9FD6-1A83D6E9DF9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1FECC-CD60-46DF-B79A-83311C43AE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EAEB8-0445-4017-97E6-650E6737C66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E5B4D-F820-42EC-9E46-392C232739F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5469C-6A9D-4586-9E96-FD79242E36A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489AE-1370-465A-A895-89F1DAF8026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332A8F-35CB-45BB-A251-8EC74F38510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5C27DA-1FC6-43C6-AF35-82BD2158706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9E9371-83B5-4CA3-99BE-4E38E116302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860FE4-A10A-453C-A8F6-12F02C8C7E4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DD77EB-9E19-4679-B835-DFE8E76E96A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200C25-0147-4544-A67C-2B8E21D14F6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94E691-BD69-4486-966F-09F6C68064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D01-2569-4762-8CAC-CE847316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BB207-AE8E-4300-87BD-54EC688C5B3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C9E798-C0B6-4FDC-B692-D0A0E01019C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F894DA-AF03-4B99-91F4-417A042653F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A2A1B9-052B-401B-A484-1356E9644F0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B44DCE-62E0-422F-8660-DD41199A5A8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B7EE59-FD43-47B4-AE63-A2947D0A339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66859-2044-456B-873A-14C615F3942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8082F-55FA-4E44-BF72-48F3B1E353A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AFFC1-346E-48A6-8671-9FCB310B673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9D119-59EF-4141-B083-92DF88FD8AF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35B2B-B5E2-4A8B-87F9-3858C38958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A8703-1948-48C2-9ECD-992FC8C9974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9B642-8088-4E54-B0A7-89E30EBD19F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E40C0-B0ED-4AE1-804D-E79F4C0C2F1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13F6D-26BD-44B9-B9C8-6C78712C39F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F2881-0769-4C70-B72E-A20D378E186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A0537-B307-44A2-B078-C84901D9FF7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26A81-6691-4247-91F3-A623E31F294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50ACFC-CAE0-4A0D-8A92-EDAF5839DF4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E5CA6-B3C9-49C2-B54B-EAD7E8758F1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84730-20CB-4404-A2D2-88AEEAB5408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77D9E-F075-4E68-9B00-DFB9B6945A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CE01A-D335-4C46-941D-7DB7D183DC1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23CD1-500B-4142-AE24-E374B10A605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A9142-3160-4CA3-A518-F6A4A40A953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11873-77EE-4295-98FE-429977B3A8C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DA72C-F887-496B-B882-83DA4FDA661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D5AF4-BD91-4DB5-9D36-A52D3BDE8A4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B50B7-EEAA-4ADD-A051-F5CB08BDFE3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E6C37-8690-4010-AFA2-A4B61B24707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61F7D-BB91-4D17-9462-F157A2493E4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1C05E-518E-4DB4-B896-81C1559D775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4AD740-9FF6-44BE-A54D-336D7FA45F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C057E-6409-4539-91D5-0E296239664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C62F99-CA12-4F68-8B03-DDFFA8918AE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45497C-0CCA-437C-9687-0A4F4CB69A6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A717FE-6652-4A93-99AA-4FAB5A2192E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815029-0F38-4281-BDDA-BC704CECA8F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784F71-EE2E-4266-9384-458DB9135F1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EB6EB0-9893-4097-B8AB-93AFE87EC18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9BC272-DAFE-4493-A5BD-A944313CCA3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061EE1-4D7B-4BB5-AFE3-B879DFD278D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6C7063-B477-46FB-B670-5E8973E4077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86DEFB-DDA0-46EC-978A-14A634DA66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90F8C-320F-4BB7-B7A6-1CDBCA987E1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A21AB7-5F9F-416D-82D0-2C0FF141D05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7C51B9-D00B-4B75-B7EE-0DBD443044C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628B84-0F34-4FA8-AF13-F60AC2530F8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F3C4B-E0FF-4208-9126-A80A1DAA907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72D25D-0848-4E33-9FB5-B933C9EC404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2445A1-654A-4819-97BA-6B8B86B6844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3A65B3-D06F-44FB-94FF-F8EBA163A34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ED4B2A-B91C-4B44-BF78-CEAF372C86E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568F3-A5B6-4A0E-96C2-D4193AA5D6C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40AE4F-CBA7-4FE1-B32C-BB6CB91304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61D26-B5B7-46DD-8E38-C74CDD73B44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E80F8D-D7C8-4390-803F-DAB95BD78E7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7DA08D-6A08-49F2-890F-B8BF7787D04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D6FC26-0BCF-49D2-BEC4-DB22FB97E9B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98009-4CB5-414A-A1F5-49D006D2CCD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E5663-B14E-4BB5-B1DB-FE454D4C18B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1C4F9-64CD-412E-9E96-BE92B890F53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AAFF1-AD24-4B85-A974-476C068A8F7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B8A5B-99FF-403B-AC49-885B2A4C926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01266-63CB-46FB-927A-50BE57C1186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E20FC-D5B0-4E5A-B576-3C940DA625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7399A-79BB-465E-92D0-C9361DBEE68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6F0A8-F50D-431D-B4FF-8DB0553FA02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FD49C-8446-4CFE-8B78-BC0A1C1C28E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04177-BD9C-4766-AE01-63E6BAEF4E6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6472A-3441-43C0-A522-872F73E7A28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BFB36-F3BD-42F2-9A18-27423470A8D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1194B-8C17-4696-8689-98C6AE6524A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16DB3-3971-434C-9F2E-8C6646987F1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79895-C461-4BD9-B74D-CD3C9F0CDD3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58CC3-93E9-44CF-8752-C468364675C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056F9-3EBF-4BA5-9E44-C32F43974B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11FBD-3BC8-4A33-8A51-DEEA63C3630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5B33E-25B5-4067-B6A4-F5E64A27E02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B4DAA-978E-43AF-966B-66E536F6157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DD2BB-594D-47B8-B799-AA542C15056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6D5C0-D809-41EC-9AD1-FBA904EF638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610AF-935B-449B-8585-3FE464EFF69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FE101-0F7D-4F33-82EE-02F245D692D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04521-3293-43CF-B40A-6493E1EDADE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14F460-D04B-4AC5-A599-2A43E5BC506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375C0-0018-43D0-BF6C-CBCE7C7E4BD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6A4E4B-C932-4A7E-A40A-C001465416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FF62A-DC62-4A53-9597-C5DF2A74677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9938C7-9098-47ED-9260-C43F7B816AC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5EB373-AABE-4569-8095-00CCEED6DEF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F72E83-B75F-4678-87E5-3CBA7378249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E2A9E2-89F9-44D0-A1B4-CA40899201C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BA6294-676B-4787-8204-D91D5B9BF11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3FD0EB-8730-43EB-B90C-527C4EBB637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834562-32CD-4DAA-97E7-0641C582FDC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C97C29-ECC8-4994-8761-237D63CD313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9F2E63-BF56-44BC-9391-80F777D243C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4CF7F-EBB2-4A9B-A575-985D26227B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9C53E-98B9-4107-86E4-4D013394975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2B90E-57EE-4B1D-98B7-C8D53FD1BB2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4729B-1446-4995-A56D-61B745E6FD0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2A5AB-7900-4510-B016-D5EE76F54DA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5903B-3922-46E6-B619-504F5FBF77E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BD707-CEA6-426D-A23B-B1439E7A09A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8B2EC-DFF8-459B-A082-A169218EDD0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E0C0A-4564-4266-91DF-22E0544E7B6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AC6DC-CE9E-49F1-A96C-7BA6691AB86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1B360-963D-4F88-902F-59426C665FE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E99ED-304E-47FE-82C8-4DFB898B9E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4A5-BB3B-4A3E-9291-5B74F3B6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55827-7857-48BF-A433-FC7A95578A7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FED8D-8F2B-4637-ACAE-58820A947A0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11CE6-EAAC-4834-B98C-089DC2E329F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C4955-4D3E-42AB-9BDC-80AD05CEF90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329D4-A377-4CE7-B50F-15A6AF0DE48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041BA-61EF-40C3-B60B-5721FDFE7F3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D2E25-9034-45FA-B3D6-2B51E859659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3D0CC-4B80-45D6-86F2-9B79EBAE1BD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89E38-4831-44E5-ACCB-736EB227073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83EFF-1A51-43C7-AB91-1B73749FD3E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9A752-DDD2-4BAB-B00A-CA5C602CD0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DB778-BBB8-4541-A924-FE606E06A74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EA50C-50F6-4260-B22A-7A9BBFC8E8B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E6645-74A6-45CF-BC3B-1ABDA0FE8FF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F358D-0266-4592-99EF-FFDA14C9CFA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9C8079-6C6B-4565-A54D-E946F4DD14D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0EC5FA-2354-48E1-B49A-2CCDFE40C0E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1A2B4B-D41A-4A68-8201-A8DDB367DCD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0AE1AB-0728-46C8-BD55-AE770EE3817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D9D7D6-0ACC-471D-ABDF-CBDA568820E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3427DE-153F-48F4-A480-C5EE32CDF80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3AD47A-5990-4C09-ADEC-FABCD07543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618F5-F0F3-45BA-9F76-C5AF74841A3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E3A91F-F1D6-4FAA-ABA2-17B2A33262A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B4D3A7-8B0E-47F4-9F0F-FD42D260635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A3A4CE-8C31-4A45-8A2B-AA653371657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CAE8EE-E2C0-4086-BB25-4F3E87629B8D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D00965-C9B9-4EEA-AC93-AE2ED6EA5D9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5195E-812B-4D09-B841-20CD2CAB9F9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374C5-026A-469F-8451-81A6FE78E76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F13D0-01AC-48C7-B2BE-43F82C537F7A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FEDBC-F958-49D1-8696-7DA5E6501EF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4EFE7-D525-4C14-AC25-547C7ADBFC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38493-9B71-4D31-931C-7D9BF3261AE8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B3331-DE79-461F-B64B-7379738C8AD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2317C-16B0-488B-8371-D4031D10F50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2FE53-2717-40BB-BCB3-E92A4272F852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69383-5644-457C-8322-FE11CC1C281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CD50A-1FDF-4D88-AFDD-A3F50308246C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8825D-34CF-47DD-8C79-937C7F34C2B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2D33D-9198-44E7-8DBA-98F8D69D11F5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B2BA81-0D18-4295-9CEF-A44381BD6B9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7A2EB5-4DEA-4068-AFC0-CAF222B2198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5858B9-6A16-4FDF-B2CD-FE3A8E84EC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926E0-3CDB-437A-BF00-C642490A9C0A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04E9BD-78D7-40D4-855B-011FFE6AE72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AB9CE5-308D-4673-A688-A7337FBC44D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684343-EC2C-4D02-80EC-DC7C7499813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F84F54-8D90-436D-A83B-BDF2D3BED015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505746-7985-4081-801F-3CC5984C5007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FB3F61-2875-4843-9E28-374B62C158A6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9A4F28-ED91-4284-B6E0-F0AA2E1DCD81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9B56BA-3902-4A35-924D-AA82F674C93C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457CE8-5AC1-4962-A4DD-8BA56342278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F39BC3-BB0B-4BF0-8650-CC644858DF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E524D-8C3D-4CA3-90AE-8F76382A35CA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B0D90C-3F2A-4365-B197-9592311E1D52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D46E20-90D0-4689-9191-C185447EC7C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49C62A-17A5-4C7C-828A-E5F009D1F0DD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CB0D32-343E-416A-AB50-ADE17428096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7A39ED-3AC4-4F90-A916-8D7431B29F0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D70AC2-BD73-42E8-ABA1-D5695663731D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4EFAD2-03B3-44CC-AF58-2A9DDD989FBE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CBBFF6-1118-4673-88C6-BABCCC391754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C58333-BCA4-4127-917C-C80546778FE3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78BD93-C59C-446F-B78D-1B2530905D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280F6-570D-496E-9735-49590A57D9EC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D689EB-0E5A-429B-961E-74B6097BD38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1767D-3486-43AC-8365-7C245D44CD36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A7AE8-D28B-4F00-950A-F487224647F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E9F18-AB8F-40F0-BC7D-FC9ED8533F4B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5EC0D-DE85-4E6E-B3D1-E26A61857F0F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28292-D34C-4CAE-9647-D77CE292372F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04772-79A9-4FB6-BE47-84CB3D937AFF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008C0-89FE-405B-9EA1-BD182F82F925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C1F36-E598-4DB9-A80D-A43B0C01B62B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00983-EAC1-44A3-95DE-7B70B0F84E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2B73-C623-45B4-8B05-E8F19BA3EEB0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AE0E7-F228-46DF-9F6B-02F91D112EEB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784F9-D698-4191-9FDF-A0D8366D647D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40FA2-6DC7-4B9B-AE87-2BD01A570A9B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8750E-0F5B-4108-845C-CE6087F63E7E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0FE63-7EC5-430E-A1F6-74A712DDFFA1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7D08F-8A72-4EFC-B992-2C910FCB5ADE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11897-C95C-42AE-ABCE-F2A7DB1F719A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F70BD-D05C-40BF-B346-08E7BA61F0A3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5B85C-F65D-4369-9C1F-9D7AC8B280CC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21E6B-440E-4CE6-898D-5FA490FA7D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0A37-E74C-4F64-B412-9284785DE909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B2814-2B7A-4FD2-9B38-9E190433F872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23308-E5CE-4996-8BF9-9D698A442540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ADACF-F075-4930-B87B-15BC8EB9C0BD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55B39-26C9-436E-80D4-B4E36F65F7A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A6F6D-F29B-48BF-B9B6-5819F549985E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CFC61F-326D-49B0-9D42-53915CAFE3E1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CC41FB-9522-4425-A262-E460032AC84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312186-4E07-483D-A9C2-76CDB26FAEBE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004224-046A-44DF-8377-ADC0F26FAE5C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E4E4B5-80B1-498F-B37D-46DFAB2643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CD4F-2E7D-42F7-84A3-40EB5C779CD8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396E69-BBA0-456F-83AD-E4BDEBDCB6F4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DC2DF9-DE4D-47C5-9204-2FB2B63DE770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06655D-3764-4535-B779-3B558D685A65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D1FB14-745A-4A2B-A18B-D9E4F1E8929F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67BB71-58F9-42E5-972C-91B37857413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D1F7EB-2BAC-41F3-BD5E-03DB271F24A7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F79A95-91DA-4421-9D9F-A73E25B41B0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D60C2-6296-41E8-BF83-463E0041612E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89B35-87B8-4EE2-9BDF-26F5B61B07F7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C4809-15FA-4470-A829-9425A157E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E52-A372-429D-8048-5CD1FCF8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21FB-11E0-440D-914B-CAA1C7476103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C03BD-59DE-4588-B40D-98131069C48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3AF16-A39F-4C76-8B7B-7DFE2E806DE3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56119-2991-448F-AA8C-6C33275ED896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A8272-2B61-4ECF-BB75-E8F2571374A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F49E8-5456-4B8D-858A-D357CDF4216C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E2DA0-1531-48CD-801E-A4FA07A27BE9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4F5F6-4F00-463D-A3EB-69C789140C4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EB794-DA8C-49DE-BFED-8A541D9AEF4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21F6C-6E08-4051-BEF2-72696B7C1B6A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6C8646-6771-41FD-AFB4-B26ADCE0D1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3477-F441-45AA-B444-3077C69AA00C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93668B-9297-4668-8C2F-466C046210D8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653EEA-C482-4917-A863-5DEA8AF1936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5987E6-D177-44D4-9986-244C6466A863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312107-1DC4-439A-AA1C-E62D45B2E5D2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B7B52E-93D5-44ED-9D97-19709AD54A16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6DF3FF-BD26-4170-ADF6-6FC0E9FC3560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37A778-04B0-418E-B8E5-B34AEB7144C3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EC0DF8-9A27-4AE9-9AE0-1C3B3ADB5D23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0F41D0-0A86-4252-97FB-202C5955FA4F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118387-92FC-4804-88EC-14F4B0068C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F24E-1617-42BE-8572-4FB5F3F919EB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CAC2A0-142F-4BB9-A7EF-10496639240E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F82970-D1AA-4A1D-A258-6A98EEE1F1F1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70058A-D282-4891-A141-BDF3354266D8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322BB7-3B7A-412F-BF6D-EE2C4FBD6F0C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090273-5425-4201-A9BC-4F6DBA270E1D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EDF18F-E8E6-4F23-9C1D-18C4CD2D48F0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C2A26A-A5C0-40FE-8CFB-E57A0DC9D0F0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B07B9C-57BD-43FF-B9A1-4C69004B6F70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39D183-CF70-4F40-9EE9-7AF5FAD7A36D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9CB2D5-708C-47B0-8620-1ED00C4304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3460-B11E-477F-9DA0-A7291581618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92B79A-570C-40BE-A5B5-9D0FB406D489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0C8ECD-52CF-4C50-AC3A-18F576ABBFBA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FF595A-6E3C-470F-8844-CBD7B5A151F4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81B70-CC55-4CAD-8813-A3BEF518613D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1C86A-A7E4-4A31-A389-B37B4DA165E7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24112-8E3A-420A-B0B9-63A5024221F0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8633C-0083-404C-8815-8807C9E1203B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5801F-825F-4700-8D17-421F24DD307A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4D5C9-728C-43DA-AA8A-3FE3D9112C3D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2202B-52C4-4047-AADB-E0DD22BDB8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74B3-A2D1-4450-B573-84D4D64D39D4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3A88E-0F94-4ED0-85A4-702C5E488CA9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45365-50E0-48BC-8F88-0D2C793349F3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00895-8937-46FC-9B2E-1E89C27DCFBC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2AAF3-B697-409E-B34A-7575A8A4E98E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8859A-7906-4CB3-A4AE-109F4D5E5D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A041-3ADA-4279-B885-D5F79C7B4B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A042-63CF-447E-9205-F4709705D9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1482-C4FC-40C6-977E-F856FA8405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4D52-38CE-421E-A486-CB610185D34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85325-63DD-4429-BF14-CC00392B8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1FF-048F-4674-8443-F0D3D550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944FA-801B-4F80-B3E7-E66B32CF3C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E0722B-A8A3-4E11-A333-FB52ED9A0B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90600B-94CC-4410-8D38-246D3F0B668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D4907-9554-4416-8CF8-19141E242EA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8CC1C-0502-4BFB-8CB7-992C2504E77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5898B-69A6-4968-93FF-E63B4FB4352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F9EBF0-E126-402F-ADCF-1A99C29EE1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53F9D-34DE-4452-8B51-ED0C80C636C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BFC4C-0C1E-49B4-AA64-8C99EEC19B1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EE247-154D-4FD3-971D-1FCF84E5F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92C-7900-4739-B45F-EA94FE8C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1BA71-66CF-4268-AA9E-8183C2AC725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AFCEC-5433-40B4-8052-FFA57824066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7B971-592B-42BB-AAC9-57148DD94A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7A171-CB6D-40FE-81FA-DFF28F4EFE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9A15D-ADED-4DA8-A647-A08319AFC3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20121-5187-42EA-8270-305D250CD63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FF851-709E-4FAB-9D25-AAB775C84B3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11499-06F4-4B6C-A059-B4F8893401F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68754-B74A-4B0D-9944-AEBD2C628A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D8911-EA86-45FA-A827-947B9ED00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7A9-82B6-438E-A48C-FF700BCB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76812-7361-4D46-B96B-AD9DFA57F44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1E262-84B6-4D74-9B0E-BE299F483E4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C403D-632A-49D0-8575-59DAB7A88FD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4762-213A-4A92-A2CB-5287341C1F1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6FB4-B972-4F0E-A750-5DAB24763D7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9B21-114F-4621-A64E-C60A645A669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2938-C39C-4C87-9B66-C353864F814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7BA39-6336-4B1D-92FE-6B16D027AEC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1B06-6419-4F1D-8B2A-7C0D6D802B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1AE9-8F22-4B89-A1E3-9EE975B15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C9D-7DFD-4DC6-9638-17B13324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EEC1-166A-4A4F-8099-5FB50E0DE9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24B72-96AC-443D-911E-8DC306C9263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9DA5-B374-495E-8023-ACD6A3DD6F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2FBF-2568-4AB9-B911-1EB0C60751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6F8D-57C9-4C81-AB64-40F82CB05FB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54C83F-4E47-4C49-9F69-6D7B3F848E7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52B71-C067-4F02-BD81-057473ED186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046B7-7554-492A-AD62-834CC1D9C9F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2C015F-B8A7-4F00-832E-8E217F6E58C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3C04C-5622-44AE-8B55-73DE5A30C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968-D256-41AC-B5F4-FBAFFD3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B271B-37F5-45CF-A0C5-400734238F2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0E5ED9-3250-49A5-9DF2-F8BDF0FF3EF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5DC97-1349-41DD-9C52-2E6193732F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C596C-D4D1-407D-9E6B-E01392B87E9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18ECD-1685-4D7A-ADE3-E9AAAB43B6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84ED0-403D-490A-B4A8-F2E108A35B2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ECAA4B-3B76-486B-BFAC-5A4FF9B62AF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608D4-3121-49FD-9729-DC84710DE0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81BD2-8D8F-4FEC-8117-FF12D2B9D29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1C96B-DACE-44E4-B81F-1FCB68C35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"/>
          <p:cNvSpPr/>
          <p:nvPr/>
        </p:nvSpPr>
        <p:spPr>
          <a:xfrm>
            <a:off x="609480" y="10969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6280" y="1439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A658-EA13-4F38-B071-774CE43743E1}" type="datetime"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5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BDD6-9936-4207-9782-A4B07E581D2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710480" y="5506920"/>
            <a:ext cx="1122480" cy="1351080"/>
            <a:chOff x="7710480" y="5506920"/>
            <a:chExt cx="1122480" cy="1351080"/>
          </a:xfrm>
        </p:grpSpPr>
        <p:pic>
          <p:nvPicPr>
            <p:cNvPr id="7" name="Picture 9" descr="健康署LOGO-OK-01"/>
            <p:cNvPicPr/>
            <p:nvPr/>
          </p:nvPicPr>
          <p:blipFill>
            <a:blip r:embed="rId2"/>
            <a:stretch/>
          </p:blipFill>
          <p:spPr>
            <a:xfrm>
              <a:off x="7710480" y="5506920"/>
              <a:ext cx="112248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文字方塊 1"/>
            <p:cNvSpPr/>
            <p:nvPr/>
          </p:nvSpPr>
          <p:spPr>
            <a:xfrm>
              <a:off x="8506080" y="5580000"/>
              <a:ext cx="28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7D23-C375-4C3B-A7E9-13BAEC63E4A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3B28-1167-4E15-B65B-E0ADE770151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DBAD-0645-420F-B0C7-83CD603D0FA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1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BA3D-9339-45DF-8ED0-A52724D44DD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1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5330-B554-4F75-B460-86B83F025B3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1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2FD8-6F98-4CDD-A69E-BB498E7442D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1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25AA-639D-4ACD-BACC-FCDAD8E36A2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1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2B2B-220A-4FEC-A341-75253C119C6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687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8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689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sldNum" idx="2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C719-D373-4CDB-8563-71844F72042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F406-EEF6-4930-8D30-3B7B7B90649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FD577-9BF2-4602-AD5B-96FD8A945C5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2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2383-8C59-45E1-A58F-DA0BC9965D1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A91F-6B03-44EC-A825-1741FEB8E49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sldNum" idx="2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E12A-133F-43A1-9934-3B335B3BCE4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sldNum" idx="2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3FF6-F865-42DC-AF28-8C0556D81AB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Num" idx="2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E8D6-3D53-4A89-8E4C-DABDF5D3505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sldNum" idx="2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AB99-E4BB-4DFF-A451-BF4158008D8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sldNum" idx="2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5672-8A6F-4C70-87E4-52CABD2ECED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sldNum" idx="2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AA70-5949-45B2-9466-2211176D2FD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sldNum" idx="3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C600-EAC2-4594-A24A-83758F1B07B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1131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2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1133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sldNum" idx="3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BCC6-89F7-4351-A600-6D6BE9F934B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A7685-D395-47EF-B1E5-47F5D619DC0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sldNum" idx="3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46B6-D878-4943-8BFE-3D00D9C98F3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sldNum" idx="3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8C52-D351-456A-A085-3EB320553F7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sldNum" idx="3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08BF-3B20-4E12-B16C-BE5FA19A524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sldNum" idx="3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CD94-2A28-41E0-B980-5DA6102F81E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sldNum" idx="3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A5EA-6F85-44C5-9C4D-09355E11DC4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sldNum" idx="3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2C53-2998-49D7-9130-3B52F8F23B0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Num" idx="3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B2A3-3BDE-4304-9FBF-763D9C8EF4C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sldNum" idx="3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A11E-FD09-4156-B7AB-5E6B6E58B95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C2806-2F46-4C68-9E9B-DFBA5C8DFA6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2B73-0A18-4AD0-AEFD-25E0FFB0EFC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61DF-AA51-48E7-A342-5245446D559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243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245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D66A-2B48-4D5E-8A0C-734C55D6B41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248D-DC13-4032-B82C-28E0701B573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917E-6807-4C13-8FD0-8A062FFEE71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-360" y="2865240"/>
            <a:ext cx="734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8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年地方衛生機關業務考評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保健類指標規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2274480" y="4597200"/>
            <a:ext cx="56912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衛生福利部國民健康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5BF5-6D8B-4A8C-9EE9-C15AA1D384D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28F8-D254-4708-A046-080666FFA8A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1" name=""/>
          <p:cNvGraphicFramePr/>
          <p:nvPr/>
        </p:nvGraphicFramePr>
        <p:xfrm>
          <a:off x="93600" y="1197000"/>
          <a:ext cx="8836200" cy="4946760"/>
        </p:xfrm>
        <a:graphic>
          <a:graphicData uri="http://schemas.openxmlformats.org/drawingml/2006/table">
            <a:tbl>
              <a:tblPr/>
              <a:tblGrid>
                <a:gridCol w="2778120"/>
                <a:gridCol w="441360"/>
                <a:gridCol w="2567160"/>
                <a:gridCol w="438120"/>
                <a:gridCol w="261144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1432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302920"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品質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疫苗校園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偵測率成長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組織性篩檢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以大腸癌為篩檢重點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校園宣導」指標，提倡國一女生施打子宮頸癌疫苗，免受子宮頸癌威脅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防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健康危害防制之規劃及推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成人嚼檳榔盛行率指標並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2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A27E-320D-44DD-B85C-412D59823FB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12600" y="1052640"/>
          <a:ext cx="8964720" cy="5194080"/>
        </p:xfrm>
        <a:graphic>
          <a:graphicData uri="http://schemas.openxmlformats.org/drawingml/2006/table">
            <a:tbl>
              <a:tblPr/>
              <a:tblGrid>
                <a:gridCol w="2946600"/>
                <a:gridCol w="654120"/>
                <a:gridCol w="2619360"/>
                <a:gridCol w="653760"/>
                <a:gridCol w="209088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3503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「營造母嬰親善的哺乳環境」中新增「</a:t>
                      </a:r>
                      <a:r>
                        <a:rPr b="0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母乳哺育之醫護人員教育訓練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，以期醫護人員能有效教導婦女增加總母乳哺育率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滿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兒童疑似異常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分數級距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3189-090D-4A38-859C-E33EB2839C7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標題 2"/>
          <p:cNvSpPr/>
          <p:nvPr/>
        </p:nvSpPr>
        <p:spPr>
          <a:xfrm>
            <a:off x="57456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健康好幫手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  --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守護國民  促進健康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內容版面配置區 2"/>
          <p:cNvSpPr/>
          <p:nvPr/>
        </p:nvSpPr>
        <p:spPr>
          <a:xfrm>
            <a:off x="4421160" y="1906560"/>
            <a:ext cx="472284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標楷體"/>
              </a:rPr>
              <a:t>促進健康 </a:t>
            </a:r>
            <a:r>
              <a:rPr b="1" lang="en-US" sz="3200" spc="-1" strike="noStrike">
                <a:solidFill>
                  <a:srgbClr val="cc0000"/>
                </a:solidFill>
                <a:latin typeface="Bauhaus 93"/>
              </a:rPr>
              <a:t>Pro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預防疾病 </a:t>
            </a:r>
            <a:r>
              <a:rPr b="1" lang="en-US" sz="3200" spc="-1" strike="noStrike">
                <a:solidFill>
                  <a:srgbClr val="006600"/>
                </a:solidFill>
                <a:latin typeface="Bauhaus 93"/>
              </a:rPr>
              <a:t>Preven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</a:rPr>
              <a:t>安全防護 </a:t>
            </a:r>
            <a:r>
              <a:rPr b="1" lang="en-US" sz="3200" spc="-1" strike="noStrike">
                <a:solidFill>
                  <a:srgbClr val="000099"/>
                </a:solidFill>
                <a:latin typeface="Bauhaus 93"/>
              </a:rPr>
              <a:t>Prote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</a:rPr>
              <a:t>共同參與 </a:t>
            </a:r>
            <a:r>
              <a:rPr b="1" lang="en-US" sz="3200" spc="-1" strike="noStrike">
                <a:solidFill>
                  <a:srgbClr val="ff0066"/>
                </a:solidFill>
                <a:latin typeface="Bauhaus 93"/>
              </a:rPr>
              <a:t>Particip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6600ff"/>
                </a:solidFill>
                <a:latin typeface="Times New Roman"/>
              </a:rPr>
              <a:t>夥伴合作  </a:t>
            </a:r>
            <a:r>
              <a:rPr b="0" lang="en-US" sz="3200" spc="-1" strike="noStrike">
                <a:solidFill>
                  <a:srgbClr val="6600ff"/>
                </a:solidFill>
                <a:latin typeface="Bauhaus 93"/>
              </a:rPr>
              <a:t>Partnersh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群組 4"/>
          <p:cNvGrpSpPr/>
          <p:nvPr/>
        </p:nvGrpSpPr>
        <p:grpSpPr>
          <a:xfrm>
            <a:off x="365040" y="1654200"/>
            <a:ext cx="4413240" cy="4162320"/>
            <a:chOff x="365040" y="1654200"/>
            <a:chExt cx="4413240" cy="4162320"/>
          </a:xfrm>
        </p:grpSpPr>
        <p:pic>
          <p:nvPicPr>
            <p:cNvPr id="1540" name="圖片 16" descr=""/>
            <p:cNvPicPr/>
            <p:nvPr/>
          </p:nvPicPr>
          <p:blipFill>
            <a:blip r:embed="rId1"/>
            <a:stretch/>
          </p:blipFill>
          <p:spPr>
            <a:xfrm>
              <a:off x="365040" y="4989960"/>
              <a:ext cx="4398480" cy="82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1" name="文字方塊 1"/>
            <p:cNvSpPr/>
            <p:nvPr/>
          </p:nvSpPr>
          <p:spPr>
            <a:xfrm>
              <a:off x="2517840" y="3666600"/>
              <a:ext cx="2260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9ec105"/>
                  </a:solidFill>
                  <a:latin typeface="Bauhaus 93"/>
                  <a:ea typeface="新細明體"/>
                </a:rPr>
                <a:t>HPA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2" name="圖片 3" descr=""/>
            <p:cNvPicPr/>
            <p:nvPr/>
          </p:nvPicPr>
          <p:blipFill>
            <a:blip r:embed="rId2"/>
            <a:stretch/>
          </p:blipFill>
          <p:spPr>
            <a:xfrm>
              <a:off x="994320" y="1654200"/>
              <a:ext cx="154332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090080" y="480600"/>
            <a:ext cx="805356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大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D68E-BADC-48AD-8944-B694E403A39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455760" y="134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5303-652D-49E9-9E16-04E5575D16E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9" name=""/>
          <p:cNvGraphicFramePr/>
          <p:nvPr/>
        </p:nvGraphicFramePr>
        <p:xfrm>
          <a:off x="4356000" y="1413000"/>
          <a:ext cx="4103640" cy="483228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99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健康生活環境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1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老年健康促進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9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癌症篩檢與檳榔健康危害防制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婦幼健康促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0" name=""/>
          <p:cNvGraphicFramePr/>
          <p:nvPr/>
        </p:nvGraphicFramePr>
        <p:xfrm>
          <a:off x="430200" y="1413000"/>
          <a:ext cx="3781440" cy="4830480"/>
        </p:xfrm>
        <a:graphic>
          <a:graphicData uri="http://schemas.openxmlformats.org/drawingml/2006/table">
            <a:tbl>
              <a:tblPr/>
              <a:tblGrid>
                <a:gridCol w="3781440"/>
              </a:tblGrid>
              <a:tr h="100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8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菸害防制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31752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F7EE-96D6-4884-B3B8-0F4AA1D999F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文字方塊 6"/>
          <p:cNvSpPr/>
          <p:nvPr/>
        </p:nvSpPr>
        <p:spPr>
          <a:xfrm>
            <a:off x="747720" y="14130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8</a:t>
            </a:r>
            <a:r>
              <a:rPr b="0" lang="zh-T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年</a:t>
            </a:r>
            <a:r>
              <a:rPr b="0" lang="zh-TW" sz="2800" spc="-1" strike="noStrike">
                <a:solidFill>
                  <a:srgbClr val="c00000"/>
                </a:solidFill>
                <a:latin typeface="Calibri"/>
              </a:rPr>
              <a:t>指標數量及配分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4" name=""/>
          <p:cNvGraphicFramePr/>
          <p:nvPr/>
        </p:nvGraphicFramePr>
        <p:xfrm>
          <a:off x="539640" y="2276640"/>
          <a:ext cx="7777440" cy="1582560"/>
        </p:xfrm>
        <a:graphic>
          <a:graphicData uri="http://schemas.openxmlformats.org/drawingml/2006/table">
            <a:tbl>
              <a:tblPr/>
              <a:tblGrid>
                <a:gridCol w="1656000"/>
                <a:gridCol w="1224000"/>
                <a:gridCol w="936360"/>
                <a:gridCol w="720720"/>
                <a:gridCol w="1440000"/>
                <a:gridCol w="1008000"/>
                <a:gridCol w="79236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1597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FCD5-531B-4E49-8610-9DAD95A93E3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7" name=""/>
          <p:cNvGraphicFramePr/>
          <p:nvPr/>
        </p:nvGraphicFramePr>
        <p:xfrm>
          <a:off x="108000" y="1171440"/>
          <a:ext cx="8893080" cy="5281920"/>
        </p:xfrm>
        <a:graphic>
          <a:graphicData uri="http://schemas.openxmlformats.org/drawingml/2006/table">
            <a:tbl>
              <a:tblPr/>
              <a:tblGrid>
                <a:gridCol w="2519280"/>
                <a:gridCol w="649440"/>
                <a:gridCol w="2590560"/>
                <a:gridCol w="649440"/>
                <a:gridCol w="24843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52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吸菸率下降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電子煙吸食率下降目標達成情形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另青少年電子煙的吸食率已逐年快速攀升，期縣市納入未來青少年菸害防制重點工作項目，故增加「青少年電子煙吸食率下降目標達成情形」；未來將視該監測調查規劃情形配合修正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3400"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2A6E-C887-481D-9C08-87307A04A31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179280" y="1413000"/>
          <a:ext cx="8859960" cy="4743360"/>
        </p:xfrm>
        <a:graphic>
          <a:graphicData uri="http://schemas.openxmlformats.org/drawingml/2006/table">
            <a:tbl>
              <a:tblPr/>
              <a:tblGrid>
                <a:gridCol w="2484720"/>
                <a:gridCol w="755640"/>
                <a:gridCol w="2520720"/>
                <a:gridCol w="792360"/>
                <a:gridCol w="2306520"/>
              </a:tblGrid>
              <a:tr h="369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5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期各縣市加強輔導醫療院所提供之戒菸服務，並提升戒菸成功率，故提高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173B-C921-4180-8895-DEDB1BC5339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3" name=""/>
          <p:cNvGraphicFramePr/>
          <p:nvPr/>
        </p:nvGraphicFramePr>
        <p:xfrm>
          <a:off x="128520" y="1268280"/>
          <a:ext cx="8702640" cy="5378760"/>
        </p:xfrm>
        <a:graphic>
          <a:graphicData uri="http://schemas.openxmlformats.org/drawingml/2006/table">
            <a:tbl>
              <a:tblPr/>
              <a:tblGrid>
                <a:gridCol w="2435400"/>
                <a:gridCol w="639720"/>
                <a:gridCol w="2305080"/>
                <a:gridCol w="801720"/>
                <a:gridCol w="2520720"/>
              </a:tblGrid>
              <a:tr h="373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4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共場所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職場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校園二手菸暴露率（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室內公共場所二手菸暴露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8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刪除「公共場所二手菸暴露率」、「職場二手菸暴露率」，增加「青少年校園二手菸暴露率」、「青少年室內公共場所二手菸暴露率」以監測各縣市無菸環境成果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為加強各縣市計畫目標達成情形，提高其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2AC0-354F-468D-9927-7F018F81161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9200" y="620640"/>
          <a:ext cx="9055440" cy="6118200"/>
        </p:xfrm>
        <a:graphic>
          <a:graphicData uri="http://schemas.openxmlformats.org/drawingml/2006/table">
            <a:tbl>
              <a:tblPr/>
              <a:tblGrid>
                <a:gridCol w="2692440"/>
                <a:gridCol w="507960"/>
                <a:gridCol w="2946600"/>
                <a:gridCol w="436680"/>
                <a:gridCol w="24717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1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成年人及長者身體活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天天五蔬果攝取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運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指標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調整為「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「提升天天五蔬果攝取比率」，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次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社區環境評估、行動改善計畫及成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設置社區營養衛生教育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「校園周邊健康飲食輔導示範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職場認證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健康識能推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「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圖像推廣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餐飲業者減鹽行動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廣職場參與健康促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推動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圖像推廣計畫」」及「推動餐飲業者減鹽行動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各項指標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6" name="Rectangle 2"/>
          <p:cNvSpPr/>
          <p:nvPr/>
        </p:nvSpPr>
        <p:spPr>
          <a:xfrm>
            <a:off x="324000" y="-10008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投影片編號版面配置區 1"/>
          <p:cNvSpPr/>
          <p:nvPr/>
        </p:nvSpPr>
        <p:spPr>
          <a:xfrm>
            <a:off x="8675640" y="645336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5398-A498-4958-AC6E-64895715743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8" name=""/>
          <p:cNvGraphicFramePr/>
          <p:nvPr/>
        </p:nvGraphicFramePr>
        <p:xfrm>
          <a:off x="11160" y="260280"/>
          <a:ext cx="9132840" cy="6697800"/>
        </p:xfrm>
        <a:graphic>
          <a:graphicData uri="http://schemas.openxmlformats.org/drawingml/2006/table">
            <a:tbl>
              <a:tblPr/>
              <a:tblGrid>
                <a:gridCol w="2949480"/>
                <a:gridCol w="579600"/>
                <a:gridCol w="3184560"/>
                <a:gridCol w="650880"/>
                <a:gridCol w="176832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老年健康促進相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中老年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及調整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高齡友善社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認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高齡友善社區涵蓋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的認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提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眾對失智症的認知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，以營造失智支持友善環境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尿液微量白蛋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croalbumin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衛生所慢性病防治照護量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民眾對腰圍警戒值認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眼底檢查或眼底彩色攝影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機構推動健康促進服務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高齡友善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成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及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型肝炎篩檢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規劃及推動高血壓防治方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輔導轄區基層診所參與慢性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預防及糖尿病品質照護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為新增「各縣市成人預防保健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肝炎篩檢利用率」、「規劃及推動高血壓防治方案」及「輔導轄區基層診所參與慢性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預防及糖尿病品質照護服務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9" name="Rectangle 2"/>
          <p:cNvSpPr/>
          <p:nvPr/>
        </p:nvSpPr>
        <p:spPr>
          <a:xfrm>
            <a:off x="468360" y="-24300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9:44:09Z</dcterms:created>
  <dc:creator>ST</dc:creator>
  <dc:description/>
  <dc:language>en-US</dc:language>
  <cp:lastModifiedBy>健康服務品質政策辦公室周青慧</cp:lastModifiedBy>
  <cp:lastPrinted>2018-11-19T01:58:33Z</cp:lastPrinted>
  <dcterms:modified xsi:type="dcterms:W3CDTF">2018-11-23T10:17:39Z</dcterms:modified>
  <cp:revision>1966</cp:revision>
  <dc:subject/>
  <dc:title>醫學人文導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